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just">
              <a:lnSpc>
                <a:spcPct val="145000"/>
              </a:lnSpc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4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560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4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3760" y="745920"/>
            <a:ext cx="49672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just">
              <a:lnSpc>
                <a:spcPct val="14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560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613EA-E0E3-4B15-B208-487DA9F64E1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559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2FAEE-AEC9-48AE-B7D2-FE656A523E9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Zástupný symbol pro číslo snímku 3"/>
          <p:cNvSpPr/>
          <p:nvPr/>
        </p:nvSpPr>
        <p:spPr>
          <a:xfrm>
            <a:off x="38559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4EEB8-5325-41F7-AF1C-72A144CC08F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Zástupný symbol pro číslo snímku 3"/>
          <p:cNvSpPr/>
          <p:nvPr/>
        </p:nvSpPr>
        <p:spPr>
          <a:xfrm>
            <a:off x="38559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392AE-6C6F-4EB4-B2A9-FF2D98D988B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Zástupný symbol pro číslo snímku 3"/>
          <p:cNvSpPr/>
          <p:nvPr/>
        </p:nvSpPr>
        <p:spPr>
          <a:xfrm>
            <a:off x="38559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C3341-0144-4401-8C9E-582B0E9D3AF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Zástupný symbol pro číslo snímku 3"/>
          <p:cNvSpPr/>
          <p:nvPr/>
        </p:nvSpPr>
        <p:spPr>
          <a:xfrm>
            <a:off x="38559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49033-20A3-4038-B92C-C833428FD59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Zástupný symbol pro číslo snímku 3"/>
          <p:cNvSpPr/>
          <p:nvPr/>
        </p:nvSpPr>
        <p:spPr>
          <a:xfrm>
            <a:off x="38559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D7179-00F4-41F3-AFD6-AA5E0DFB8FA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Zástupný symbol pro číslo snímku 3"/>
          <p:cNvSpPr/>
          <p:nvPr/>
        </p:nvSpPr>
        <p:spPr>
          <a:xfrm>
            <a:off x="38559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FA2C5-00D6-42EF-A328-32AAECE2B27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Zástupný symbol pro číslo snímku 3"/>
          <p:cNvSpPr/>
          <p:nvPr/>
        </p:nvSpPr>
        <p:spPr>
          <a:xfrm>
            <a:off x="38559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E098C-87D1-41A9-ABD1-13C8FE41C20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Zástupný symbol pro číslo snímku 3"/>
          <p:cNvSpPr/>
          <p:nvPr/>
        </p:nvSpPr>
        <p:spPr>
          <a:xfrm>
            <a:off x="38559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8B782-E2F4-4F5B-A5A5-0CB8E8BAFC5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559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2D987-BBE6-4177-9FC0-136583138E9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Zástupný symbol pro číslo snímku 3"/>
          <p:cNvSpPr/>
          <p:nvPr/>
        </p:nvSpPr>
        <p:spPr>
          <a:xfrm>
            <a:off x="38559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40FF6-D211-4193-9D15-F2822C7C895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Zástupný symbol pro číslo snímku 3"/>
          <p:cNvSpPr/>
          <p:nvPr/>
        </p:nvSpPr>
        <p:spPr>
          <a:xfrm>
            <a:off x="38559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7A2D5-C019-4BAB-86CE-BDE4590D1A2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Zástupný symbol pro číslo snímku 3"/>
          <p:cNvSpPr/>
          <p:nvPr/>
        </p:nvSpPr>
        <p:spPr>
          <a:xfrm>
            <a:off x="38559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06E42-728F-4278-B139-CAA5BD00D76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Zástupný symbol pro číslo snímku 3"/>
          <p:cNvSpPr/>
          <p:nvPr/>
        </p:nvSpPr>
        <p:spPr>
          <a:xfrm>
            <a:off x="38559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24859-C886-4715-B6CA-A1B4960A9A7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Zástupný symbol pro číslo snímku 3"/>
          <p:cNvSpPr/>
          <p:nvPr/>
        </p:nvSpPr>
        <p:spPr>
          <a:xfrm>
            <a:off x="38559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75E01-7FA8-439B-ADA1-9C709C088EC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Zástupný symbol pro číslo snímku 3"/>
          <p:cNvSpPr/>
          <p:nvPr/>
        </p:nvSpPr>
        <p:spPr>
          <a:xfrm>
            <a:off x="38559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FBEDE-CB1D-4D0A-83D5-28C8779164B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Zástupný symbol pro číslo snímku 3"/>
          <p:cNvSpPr/>
          <p:nvPr/>
        </p:nvSpPr>
        <p:spPr>
          <a:xfrm>
            <a:off x="38559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C0626-10C6-494D-A7BB-31DA06FCD35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Zástupný symbol pro číslo snímku 3"/>
          <p:cNvSpPr/>
          <p:nvPr/>
        </p:nvSpPr>
        <p:spPr>
          <a:xfrm>
            <a:off x="38559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B50BD-5BFE-499D-98EC-35BEA721BEA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916B-4CA0-4BC3-85AF-C266851EA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9CFB-189C-4916-B047-B39B57182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46AB-EF84-448E-81D6-EC49EC297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19DA-904C-4C58-AF51-BBF602842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FA57-5504-4BF8-8DDA-FBE220EAB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D913-0B2B-4937-89C0-CC059885D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3483-D1D5-4B95-B4D7-55D05DF62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00B4-0A47-483A-9562-4073598B0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685C-F792-454A-96BD-1BBE33C60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3834-1893-4415-A960-43A551240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7CF1-A84C-4B68-9B30-22F3FC1CA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9BC3-C5B7-4735-BD85-90DF3D0D8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4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4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03803-AACF-4EB2-A62F-407F1A32346D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team.cz/cz/products/rp/logframe.pdf" TargetMode="External"/><Relationship Id="rId2" Type="http://schemas.openxmlformats.org/officeDocument/2006/relationships/hyperlink" Target="http://www.partnerstvi-jmk.cz/page.php?action=detail&amp;id=94" TargetMode="External"/><Relationship Id="rId3" Type="http://schemas.openxmlformats.org/officeDocument/2006/relationships/hyperlink" Target="http://www.logframe.cz/metoda.htm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esfcr.cz/" TargetMode="External"/><Relationship Id="rId2" Type="http://schemas.openxmlformats.org/officeDocument/2006/relationships/hyperlink" Target="https://forum.esfcr.cz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98064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cs-CZ" sz="3600" spc="-1" strike="noStrike">
                <a:solidFill>
                  <a:srgbClr val="c00000"/>
                </a:solidFill>
                <a:latin typeface="Arial"/>
              </a:rPr>
              <a:t>Specifická kritéria výzvy č. 76 </a:t>
            </a:r>
            <a:br>
              <a:rPr sz="3200"/>
            </a:b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692000" y="2492280"/>
            <a:ext cx="655164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493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35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4407e"/>
                </a:solidFill>
                <a:latin typeface="Arial"/>
              </a:rPr>
              <a:t>Seminář pro žadatele</a:t>
            </a:r>
            <a:br>
              <a:rPr sz="2800"/>
            </a:br>
            <a:r>
              <a:rPr b="1" lang="cs-CZ" sz="2800" spc="-1" strike="noStrike">
                <a:solidFill>
                  <a:srgbClr val="14407e"/>
                </a:solidFill>
                <a:latin typeface="Arial"/>
              </a:rPr>
              <a:t>OP LZZ – výzva č. 76 Rovné příležitosti žen a mužů na trhu práce a slaďování pracovního a rodinného živo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3560"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35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Praha/Brno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407e"/>
                </a:solidFill>
                <a:latin typeface="Arial"/>
                <a:ea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ostup vyplňování logického rám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Definovat </a:t>
            </a:r>
            <a:r>
              <a:rPr b="1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účel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, který má projekt splnit (jen jeden); čeho hodláme dosáhnout; skutečný motiv; změna, kterou chceme dosáhnout (i když jí třeba nedosáhne jenom jeden projekt). Účel vyjadřuje cíl, ne aktivity; bezprostřední důvod, proč se do projektu pouštíme. O naplnění změny usilujeme výstupy a výsledky (příp. i dopad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         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CO CHCEME DOSÁHNOUT, JESTLIŽE PROVEDEME AKTIV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ř. Účelem projektu ve výzvě 76 by mělo být zlepšení situace v definovaných oblastech trhu prá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Horizontální a vertikální rozdělení trhu prá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Míra platové nerovnosti žen a muž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řístup zaměstnavatelů ke slaďování prac. a rodinného živ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Odbourávání genderových stereotyp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         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Firmy jsou motivovány zavézt relevantní opatření pro slaďování rodinného a pracovního života (MPS, regionu XY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Šipka doprava 5"/>
          <p:cNvSpPr/>
          <p:nvPr/>
        </p:nvSpPr>
        <p:spPr>
          <a:xfrm>
            <a:off x="463680" y="3032280"/>
            <a:ext cx="647640" cy="368280"/>
          </a:xfrm>
          <a:prstGeom prst="rightArrow">
            <a:avLst>
              <a:gd name="adj1" fmla="val 50000"/>
              <a:gd name="adj2" fmla="val 50029"/>
            </a:avLst>
          </a:prstGeom>
          <a:solidFill>
            <a:srgbClr val="d113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90" name="Šipka doprava 5"/>
          <p:cNvSpPr/>
          <p:nvPr/>
        </p:nvSpPr>
        <p:spPr>
          <a:xfrm>
            <a:off x="466560" y="5427720"/>
            <a:ext cx="648000" cy="368280"/>
          </a:xfrm>
          <a:prstGeom prst="rightArrow">
            <a:avLst>
              <a:gd name="adj1" fmla="val 50000"/>
              <a:gd name="adj2" fmla="val 50057"/>
            </a:avLst>
          </a:prstGeom>
          <a:solidFill>
            <a:srgbClr val="d113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ostup vyplňování logického rám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Definovat </a:t>
            </a:r>
            <a:r>
              <a:rPr b="1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výstupy a výsledky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sloužící pro dosažení účelu projektu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výstupy -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co se skutečně zrealizovalo; realizátoři projektu nesou za jejich dosažní přímou odpovědnost (za splnění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předpokladů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); konkrétní popis toho, co se vytvoří, zdokonalí, inovuje…); je-li jich více -- nutno je popsat a očíslov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ř. provedené genderové audity ve firmá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    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vytvořená interní směrnice k zavádění relevantních opatř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    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vytvořená statistika využívání genderových opatřen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výsledky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- okamžité dopady projektu (čeho bude s ukončením projektu dosaženo) - používá se trpný rod (ve tvaru přídavného jména) popisující situaci na konci projektu (inovovaný produkt, motivované firmy pro prosazování tématu slaďování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ř. zlepšení přístupu firem v regionu XY k problematice slaďování rodinného  pracovního živ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    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zlepšení zaměstnanosti v regionu díky využití genderových opatř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ostup vyplňování logického rám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Definovat </a:t>
            </a:r>
            <a:r>
              <a:rPr b="1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aktivity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sloužící k dosažení výstupů - ke každému výstupu přiřadit 2-4 aktivity se zdroji dostupnými pro vytvoření výstupů; činnosti, které jsou předmětem projektu (jejich logická a časová posloupnost) - jak bude projekt realizová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ř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3f7e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Genderový audit ve firmá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3f7e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Diskuzní kulatý stů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3f7e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Vytvoření interních směrnic ve firmá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3f7e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ředstavení výsledků zaměstnancům podni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3f7e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Zapojení Úřadu práce ČR - propagace podpory slaďování při nabízení práce a při jednání s ostatními podniky zapojenými do projek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3f7e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Zpracování statistiky využívání nových opatř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3f7e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Kvantitativní výzkum a evaluace v regionu (firmá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ostup vyplňování logického rám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Po vyplnění sloupce intervenčních cílů ověř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vertikální logiku pomocí </a:t>
            </a:r>
            <a:r>
              <a:rPr b="0" i="1" lang="cs-CZ" sz="1800" spc="-1" strike="noStrike">
                <a:solidFill>
                  <a:srgbClr val="143f7e"/>
                </a:solidFill>
                <a:latin typeface="Arial"/>
              </a:rPr>
              <a:t>Jestliže/Pak -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musí být uvedeny všechny faktory ovlivňující dosažení vyšší úrovně (dosažení vyšší úrovně je podmíněno splněním úrovně nižší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Definovat </a:t>
            </a:r>
            <a:r>
              <a:rPr b="1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objektivně ověřitelné ukazatele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na jednotlivých úrovních logického rámce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Řídit lze jen to, co lze měřit (u aktivit se uvádějí ukazatelé vstupů) - co, kolik, kdy, pro koho, kde. Pro měření jedné aktivity, výsledku či výstupů, a účelu - 2-3 ukazatele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ři projektech financovaných ze strukturálních fondů je dobré vycházet ze seznamu monitorovacích ukazatelů pro dané opatř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ř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15 firem projde genderovým auditem (počet podpořených osob X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20% zaměstnanců využije zavedených opatř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07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ostup vyplňování logického rám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Definovat </a:t>
            </a:r>
            <a:r>
              <a:rPr b="1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zdroje objektivního ověření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na jednotlivých úrovních logického rámce - pouze ukazatele, které je možno ověřit-- tj. validní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Nejsou-li jasné zdroje, je nutno v projektu učinit opatření, které povedou k jejich získání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u aktivit -- časový údaj o začátku a ukončení každé ak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Definovat </a:t>
            </a:r>
            <a:r>
              <a:rPr b="1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předpoklady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na jednotlivých úrovních logického rámce - </a:t>
            </a:r>
            <a:r>
              <a:rPr b="0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rizika přeformulovat do pozitivní podoby jako předpoklady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Co předpokládáme o vnějších faktorech, na něž projekt nemá vliv, ale které mohou ovlivnit jeho realizaci a dlouhodobě i jeho udržitelnos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Odpovědi jsou strukturovány podle jednotlivých úrovní Cílů, Účelů, Výstupů a Aktivit projekt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sledním řádkem tohoto sloupce jsou </a:t>
            </a:r>
            <a:r>
              <a:rPr b="1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předběžné podmínky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(připravenost k realizaci), jejichž splnění podmiňuje zahájení celého projekt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ř. Příprava projektu a jeho schválení poskytovatelem dotace, schopný realizační tým a genderový expert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07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ostup vyplňování logického rám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6840" y="1412640"/>
            <a:ext cx="82184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07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Plátno 26"/>
          <p:cNvGrpSpPr/>
          <p:nvPr/>
        </p:nvGrpSpPr>
        <p:grpSpPr>
          <a:xfrm>
            <a:off x="1187280" y="1665360"/>
            <a:ext cx="6913800" cy="3995640"/>
            <a:chOff x="1187280" y="1665360"/>
            <a:chExt cx="6913800" cy="3995640"/>
          </a:xfrm>
        </p:grpSpPr>
        <p:sp>
          <p:nvSpPr>
            <p:cNvPr id="102" name="Obdélník 30"/>
            <p:cNvSpPr/>
            <p:nvPr/>
          </p:nvSpPr>
          <p:spPr>
            <a:xfrm>
              <a:off x="1187280" y="1665360"/>
              <a:ext cx="6913800" cy="39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45000"/>
                </a:lnSpc>
                <a:buClr>
                  <a:srgbClr val="143f7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3f7e"/>
                </a:solidFill>
                <a:latin typeface="Arial"/>
              </a:endParaRPr>
            </a:p>
          </p:txBody>
        </p:sp>
        <p:pic>
          <p:nvPicPr>
            <p:cNvPr id="103" name="Picture 32" descr=""/>
            <p:cNvPicPr/>
            <p:nvPr/>
          </p:nvPicPr>
          <p:blipFill>
            <a:blip r:embed="rId1"/>
            <a:stretch/>
          </p:blipFill>
          <p:spPr>
            <a:xfrm>
              <a:off x="1187280" y="1838880"/>
              <a:ext cx="6361920" cy="316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Line 33"/>
            <p:cNvSpPr/>
            <p:nvPr/>
          </p:nvSpPr>
          <p:spPr>
            <a:xfrm>
              <a:off x="2945160" y="2590920"/>
              <a:ext cx="0" cy="1680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lg" type="oval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45000"/>
                </a:lnSpc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05" name="Text Box 34"/>
            <p:cNvSpPr/>
            <p:nvPr/>
          </p:nvSpPr>
          <p:spPr>
            <a:xfrm>
              <a:off x="2462040" y="2490120"/>
              <a:ext cx="29880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3120" bIns="33120" anchor="t">
              <a:noAutofit/>
            </a:bodyPr>
            <a:p>
              <a:pPr algn="just">
                <a:lnSpc>
                  <a:spcPct val="115000"/>
                </a:lnSpc>
                <a:spcAft>
                  <a:spcPts val="1001"/>
                </a:spcAft>
                <a:buClr>
                  <a:srgbClr val="ff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700" spc="-1" strike="noStrike">
                  <a:solidFill>
                    <a:srgbClr val="ff0000"/>
                  </a:solidFill>
                  <a:latin typeface="Calibri"/>
                  <a:ea typeface="Calibri"/>
                </a:rPr>
                <a:t>1</a:t>
              </a:r>
              <a:endParaRPr b="0" lang="en-US" sz="17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06" name="Text Box 35"/>
            <p:cNvSpPr/>
            <p:nvPr/>
          </p:nvSpPr>
          <p:spPr>
            <a:xfrm>
              <a:off x="2478240" y="3981960"/>
              <a:ext cx="29880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3120" bIns="33120" anchor="t">
              <a:noAutofit/>
            </a:bodyPr>
            <a:p>
              <a:pPr algn="just">
                <a:lnSpc>
                  <a:spcPct val="115000"/>
                </a:lnSpc>
                <a:spcAft>
                  <a:spcPts val="1001"/>
                </a:spcAft>
                <a:buClr>
                  <a:srgbClr val="ff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700" spc="-1" strike="noStrike">
                  <a:solidFill>
                    <a:srgbClr val="ff0000"/>
                  </a:solidFill>
                  <a:latin typeface="Calibri"/>
                  <a:ea typeface="Calibri"/>
                </a:rPr>
                <a:t>4</a:t>
              </a:r>
              <a:endParaRPr b="0" lang="en-US" sz="17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07" name="Text Box 36"/>
            <p:cNvSpPr/>
            <p:nvPr/>
          </p:nvSpPr>
          <p:spPr>
            <a:xfrm>
              <a:off x="7005240" y="4502880"/>
              <a:ext cx="29880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3120" bIns="33120" anchor="t">
              <a:noAutofit/>
            </a:bodyPr>
            <a:p>
              <a:pPr algn="just">
                <a:lnSpc>
                  <a:spcPct val="115000"/>
                </a:lnSpc>
                <a:spcAft>
                  <a:spcPts val="1001"/>
                </a:spcAft>
                <a:buClr>
                  <a:srgbClr val="ff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700" spc="-1" strike="noStrike">
                  <a:solidFill>
                    <a:srgbClr val="ff0000"/>
                  </a:solidFill>
                  <a:latin typeface="Calibri"/>
                  <a:ea typeface="Calibri"/>
                </a:rPr>
                <a:t>6</a:t>
              </a:r>
              <a:endParaRPr b="0" lang="en-US" sz="17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08" name="Text Box 37"/>
            <p:cNvSpPr/>
            <p:nvPr/>
          </p:nvSpPr>
          <p:spPr>
            <a:xfrm>
              <a:off x="2945160" y="2571840"/>
              <a:ext cx="29880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3120" bIns="33120" anchor="t">
              <a:noAutofit/>
            </a:bodyPr>
            <a:p>
              <a:pPr algn="just">
                <a:lnSpc>
                  <a:spcPct val="115000"/>
                </a:lnSpc>
                <a:spcAft>
                  <a:spcPts val="1001"/>
                </a:spcAft>
                <a:buClr>
                  <a:srgbClr val="ff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700" spc="-1" strike="noStrike">
                  <a:solidFill>
                    <a:srgbClr val="ff0000"/>
                  </a:solidFill>
                  <a:latin typeface="Calibri"/>
                  <a:ea typeface="Calibri"/>
                </a:rPr>
                <a:t>5</a:t>
              </a:r>
              <a:endParaRPr b="0" lang="en-US" sz="17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09" name="Text Box 38"/>
            <p:cNvSpPr/>
            <p:nvPr/>
          </p:nvSpPr>
          <p:spPr>
            <a:xfrm>
              <a:off x="2478240" y="2939760"/>
              <a:ext cx="29880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3120" bIns="33120" anchor="t">
              <a:noAutofit/>
            </a:bodyPr>
            <a:p>
              <a:pPr algn="just">
                <a:lnSpc>
                  <a:spcPct val="115000"/>
                </a:lnSpc>
                <a:spcAft>
                  <a:spcPts val="1001"/>
                </a:spcAft>
                <a:buClr>
                  <a:srgbClr val="ff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700" spc="-1" strike="noStrike">
                  <a:solidFill>
                    <a:srgbClr val="ff0000"/>
                  </a:solidFill>
                  <a:latin typeface="Calibri"/>
                  <a:ea typeface="Calibri"/>
                </a:rPr>
                <a:t>2</a:t>
              </a:r>
              <a:endParaRPr b="0" lang="en-US" sz="17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10" name="Text Box 39"/>
            <p:cNvSpPr/>
            <p:nvPr/>
          </p:nvSpPr>
          <p:spPr>
            <a:xfrm>
              <a:off x="2478240" y="3440160"/>
              <a:ext cx="29880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3120" bIns="33120" anchor="t">
              <a:noAutofit/>
            </a:bodyPr>
            <a:p>
              <a:pPr algn="just">
                <a:lnSpc>
                  <a:spcPct val="115000"/>
                </a:lnSpc>
                <a:spcAft>
                  <a:spcPts val="1001"/>
                </a:spcAft>
                <a:buClr>
                  <a:srgbClr val="ff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700" spc="-1" strike="noStrike">
                  <a:solidFill>
                    <a:srgbClr val="ff0000"/>
                  </a:solidFill>
                  <a:latin typeface="Calibri"/>
                  <a:ea typeface="Calibri"/>
                </a:rPr>
                <a:t>3</a:t>
              </a:r>
              <a:endParaRPr b="0" lang="en-US" sz="17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11" name="Line 40"/>
            <p:cNvSpPr/>
            <p:nvPr/>
          </p:nvSpPr>
          <p:spPr>
            <a:xfrm flipH="1" flipV="1">
              <a:off x="3251880" y="4213080"/>
              <a:ext cx="3805560" cy="637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lg" type="oval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45000"/>
                </a:lnSpc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12" name="Text Box 41"/>
            <p:cNvSpPr/>
            <p:nvPr/>
          </p:nvSpPr>
          <p:spPr>
            <a:xfrm>
              <a:off x="3498480" y="3266640"/>
              <a:ext cx="29880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3120" bIns="33120" anchor="t">
              <a:noAutofit/>
            </a:bodyPr>
            <a:p>
              <a:pPr algn="just">
                <a:lnSpc>
                  <a:spcPct val="115000"/>
                </a:lnSpc>
                <a:spcAft>
                  <a:spcPts val="1001"/>
                </a:spcAft>
                <a:buClr>
                  <a:srgbClr val="ff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700" spc="-1" strike="noStrike">
                  <a:solidFill>
                    <a:srgbClr val="ff0000"/>
                  </a:solidFill>
                  <a:latin typeface="Calibri"/>
                  <a:ea typeface="Calibri"/>
                </a:rPr>
                <a:t>8</a:t>
              </a:r>
              <a:endParaRPr b="0" lang="en-US" sz="17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13" name="Text Box 42"/>
            <p:cNvSpPr/>
            <p:nvPr/>
          </p:nvSpPr>
          <p:spPr>
            <a:xfrm>
              <a:off x="2931480" y="4908960"/>
              <a:ext cx="443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3120" bIns="33120" anchor="t">
              <a:noAutofit/>
            </a:bodyPr>
            <a:p>
              <a:pPr algn="just">
                <a:lnSpc>
                  <a:spcPct val="115000"/>
                </a:lnSpc>
                <a:spcAft>
                  <a:spcPts val="1001"/>
                </a:spcAft>
                <a:buClr>
                  <a:srgbClr val="ff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ff0000"/>
                  </a:solidFill>
                  <a:latin typeface="Calibri"/>
                  <a:ea typeface="Calibri"/>
                </a:rPr>
                <a:t>10</a:t>
              </a:r>
              <a:endParaRPr b="0" lang="en-US" sz="16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14" name="Text Box 43"/>
            <p:cNvSpPr/>
            <p:nvPr/>
          </p:nvSpPr>
          <p:spPr>
            <a:xfrm>
              <a:off x="3505320" y="2745720"/>
              <a:ext cx="29880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3120" bIns="33120" anchor="t">
              <a:noAutofit/>
            </a:bodyPr>
            <a:p>
              <a:pPr algn="just">
                <a:lnSpc>
                  <a:spcPct val="115000"/>
                </a:lnSpc>
                <a:spcAft>
                  <a:spcPts val="1001"/>
                </a:spcAft>
                <a:buClr>
                  <a:srgbClr val="ff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700" spc="-1" strike="noStrike">
                  <a:solidFill>
                    <a:srgbClr val="ff0000"/>
                  </a:solidFill>
                  <a:latin typeface="Calibri"/>
                  <a:ea typeface="Calibri"/>
                </a:rPr>
                <a:t>9</a:t>
              </a:r>
              <a:endParaRPr b="0" lang="en-US" sz="17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15" name="Text Box 44"/>
            <p:cNvSpPr/>
            <p:nvPr/>
          </p:nvSpPr>
          <p:spPr>
            <a:xfrm>
              <a:off x="3505320" y="3787560"/>
              <a:ext cx="29880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3120" bIns="33120" anchor="t">
              <a:noAutofit/>
            </a:bodyPr>
            <a:p>
              <a:pPr algn="just">
                <a:lnSpc>
                  <a:spcPct val="115000"/>
                </a:lnSpc>
                <a:spcAft>
                  <a:spcPts val="1001"/>
                </a:spcAft>
                <a:buClr>
                  <a:srgbClr val="ff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700" spc="-1" strike="noStrike">
                  <a:solidFill>
                    <a:srgbClr val="ff0000"/>
                  </a:solidFill>
                  <a:latin typeface="Calibri"/>
                  <a:ea typeface="Calibri"/>
                </a:rPr>
                <a:t>7</a:t>
              </a:r>
              <a:endParaRPr b="0" lang="en-US" sz="17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16" name="Line 45"/>
            <p:cNvSpPr/>
            <p:nvPr/>
          </p:nvSpPr>
          <p:spPr>
            <a:xfrm>
              <a:off x="3560760" y="4155480"/>
              <a:ext cx="34966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lg" type="oval" w="lg"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just">
                <a:lnSpc>
                  <a:spcPct val="145000"/>
                </a:lnSpc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17" name="Line 46"/>
            <p:cNvSpPr/>
            <p:nvPr/>
          </p:nvSpPr>
          <p:spPr>
            <a:xfrm flipH="1" flipV="1">
              <a:off x="3498480" y="3750840"/>
              <a:ext cx="3558960" cy="4046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lg" type="oval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45000"/>
                </a:lnSpc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18" name="Line 47"/>
            <p:cNvSpPr/>
            <p:nvPr/>
          </p:nvSpPr>
          <p:spPr>
            <a:xfrm>
              <a:off x="3560760" y="3634560"/>
              <a:ext cx="34966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lg" type="oval" w="lg"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just">
                <a:lnSpc>
                  <a:spcPct val="145000"/>
                </a:lnSpc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19" name="Line 48"/>
            <p:cNvSpPr/>
            <p:nvPr/>
          </p:nvSpPr>
          <p:spPr>
            <a:xfrm flipH="1" flipV="1">
              <a:off x="3498480" y="3228480"/>
              <a:ext cx="3558960" cy="4060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lg" type="oval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45000"/>
                </a:lnSpc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20" name="Line 49"/>
            <p:cNvSpPr/>
            <p:nvPr/>
          </p:nvSpPr>
          <p:spPr>
            <a:xfrm>
              <a:off x="3560760" y="3113280"/>
              <a:ext cx="34966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lg" type="oval" w="lg"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just">
                <a:lnSpc>
                  <a:spcPct val="145000"/>
                </a:lnSpc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21" name="Line 50"/>
            <p:cNvSpPr/>
            <p:nvPr/>
          </p:nvSpPr>
          <p:spPr>
            <a:xfrm flipH="1" flipV="1">
              <a:off x="3498480" y="2707200"/>
              <a:ext cx="3558960" cy="4060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lg" type="oval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45000"/>
                </a:lnSpc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22" name="Oval 51"/>
            <p:cNvSpPr/>
            <p:nvPr/>
          </p:nvSpPr>
          <p:spPr>
            <a:xfrm>
              <a:off x="1840680" y="1665360"/>
              <a:ext cx="6260400" cy="399564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45000"/>
                </a:lnSpc>
                <a:buClr>
                  <a:srgbClr val="143f7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23" name="Line 52"/>
            <p:cNvSpPr/>
            <p:nvPr/>
          </p:nvSpPr>
          <p:spPr>
            <a:xfrm>
              <a:off x="4295520" y="2359800"/>
              <a:ext cx="15966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lg" type="oval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just">
                <a:lnSpc>
                  <a:spcPct val="145000"/>
                </a:lnSpc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24" name="Text Box 53"/>
            <p:cNvSpPr/>
            <p:nvPr/>
          </p:nvSpPr>
          <p:spPr>
            <a:xfrm>
              <a:off x="4295520" y="2339640"/>
              <a:ext cx="443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3120" bIns="33120" anchor="t">
              <a:noAutofit/>
            </a:bodyPr>
            <a:p>
              <a:pPr algn="just">
                <a:lnSpc>
                  <a:spcPct val="115000"/>
                </a:lnSpc>
                <a:spcAft>
                  <a:spcPts val="1001"/>
                </a:spcAft>
                <a:buClr>
                  <a:srgbClr val="ff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ff0000"/>
                  </a:solidFill>
                  <a:latin typeface="Calibri"/>
                  <a:ea typeface="Calibri"/>
                </a:rPr>
                <a:t>11</a:t>
              </a:r>
              <a:endParaRPr b="0" lang="en-US" sz="16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25" name="Text Box 54"/>
            <p:cNvSpPr/>
            <p:nvPr/>
          </p:nvSpPr>
          <p:spPr>
            <a:xfrm>
              <a:off x="5386320" y="2339640"/>
              <a:ext cx="443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3120" bIns="33120" anchor="t">
              <a:noAutofit/>
            </a:bodyPr>
            <a:p>
              <a:pPr algn="just">
                <a:lnSpc>
                  <a:spcPct val="115000"/>
                </a:lnSpc>
                <a:spcAft>
                  <a:spcPts val="1001"/>
                </a:spcAft>
                <a:buClr>
                  <a:srgbClr val="ff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ff0000"/>
                  </a:solidFill>
                  <a:latin typeface="Calibri"/>
                  <a:ea typeface="Calibri"/>
                </a:rPr>
                <a:t>12</a:t>
              </a:r>
              <a:endParaRPr b="0" lang="en-US" sz="1600" spc="-1" strike="noStrike">
                <a:solidFill>
                  <a:srgbClr val="143f7e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Konečné čtení matice log. rám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6840" y="1412640"/>
            <a:ext cx="82184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07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Obrázek 28" descr=""/>
          <p:cNvPicPr/>
          <p:nvPr/>
        </p:nvPicPr>
        <p:blipFill>
          <a:blip r:embed="rId1"/>
          <a:srcRect l="14214" t="33060" r="12230" b="10538"/>
          <a:stretch/>
        </p:blipFill>
        <p:spPr>
          <a:xfrm>
            <a:off x="611280" y="1596960"/>
            <a:ext cx="7705800" cy="45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Další zdro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6840" y="1412640"/>
            <a:ext cx="82184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143f7e"/>
                </a:solidFill>
                <a:latin typeface="Arial"/>
              </a:rPr>
              <a:t>Příručka pro řízení rozvojových partnerství, Ministerstvo práce a sociálních věcí, 2008, str. 28-42. Dostupné z WWW: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lang="cs-CZ" sz="1600" spc="-1" strike="noStrike" u="sng">
                <a:solidFill>
                  <a:srgbClr val="143f7e"/>
                </a:solidFill>
                <a:uFillTx/>
                <a:latin typeface="Arial"/>
              </a:rPr>
              <a:t>http://www.equalcr.cz/files/clanky/7/Prirucka_pro_rizeni_rozvojovych_partnerstvi.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CHUDOBA, Roman. 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Formulace projektu metodou logického rámce.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Dostupné z WWW: </a:t>
            </a:r>
            <a:r>
              <a:rPr b="0" lang="cs-CZ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team.cz/cz/products/rp/logframe.pdf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LACKO, Branislav. 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Metody a techniky projektového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ř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ízení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in Sborník vybraných kapitol z přípravy a řízení projektů. Výukový materiál z projektu Euromanažer. Krajské zařízení pro další vzdělávání pedagogických pracovníků a informační centrum, Nový Jičín, příspěvková Organiz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Matice logického rámce. Metodický návod tvorby a použití logického rámce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 Modul III.Akreditovaný vzdělávací program Mobilní projektový inkubátor. Dostupné z WWW: </a:t>
            </a:r>
            <a:r>
              <a:rPr b="0" lang="cs-CZ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partnerstvi-jmk.cz/page.php?action=detail&amp;id=9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Metoda logického rámce.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Dostupné z WWW: </a:t>
            </a:r>
            <a:r>
              <a:rPr b="0" lang="cs-CZ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logframe.cz/metoda.ht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Národní ústav odborného vzdělávání.: </a:t>
            </a:r>
            <a:r>
              <a:rPr b="1" i="1" lang="cs-CZ" sz="1600" spc="-1" strike="noStrike">
                <a:solidFill>
                  <a:srgbClr val="143f7e"/>
                </a:solidFill>
                <a:latin typeface="Arial"/>
              </a:rPr>
              <a:t>Jak připravit projekty financované z evropských fondů v období 2007-2013 - 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Možnosti čerpání prostředků</a:t>
            </a:r>
            <a:r>
              <a:rPr b="1" i="1" lang="cs-CZ" sz="1600" spc="-1" strike="noStrike">
                <a:solidFill>
                  <a:srgbClr val="143f7e"/>
                </a:solidFill>
                <a:latin typeface="Arial"/>
              </a:rPr>
              <a:t>, 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Příprava a zpracování projektu</a:t>
            </a:r>
            <a:r>
              <a:rPr b="1" i="1" lang="cs-CZ" sz="16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Konkrétní rady pro tvorbu a podávání projektu. 1. Vyd., Praha, 2008.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cs-CZ" sz="2400" spc="-1" strike="noStrike">
              <a:solidFill>
                <a:srgbClr val="d1131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143f7e"/>
                </a:solidFill>
                <a:latin typeface="Arial"/>
              </a:rPr>
              <a:t>Děkuji za pozornos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esfcr.c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s://forum.esfcr.cz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Specifické kritérium – Princip partnerstv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Hlavním smyslem tvorby partnerství j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          </a:t>
            </a:r>
            <a:r>
              <a:rPr b="1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úzká vzájemná spolupráce</a:t>
            </a:r>
            <a:r>
              <a:rPr b="0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 </a:t>
            </a:r>
            <a:r>
              <a:rPr b="1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různých typů organizací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, které disponují odlišnými zkušenostmi s řešením problematiky v dané oblasti (vymezené jak regionálně, tak i tematicky) při realizaci projektu. Partneři se podílejí na fungování a naplňování cíle společného projektu, spoluúčast všech partnerů na projektu je podstatná a nezastupitelná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  <a:ea typeface="Calibri"/>
              </a:rPr>
              <a:t>Český partn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  <a:ea typeface="Calibri"/>
              </a:rPr>
              <a:t>s finančním příspěvk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  <a:ea typeface="Calibri"/>
              </a:rPr>
              <a:t>bez finančního příspěvk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  <a:ea typeface="Calibri"/>
              </a:rPr>
              <a:t>          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  <a:ea typeface="Calibri"/>
              </a:rPr>
              <a:t>musí patřit mezi oprávněné žadatele ve výzvě č. 76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  <a:ea typeface="Calibri"/>
              </a:rPr>
              <a:t>Výjimku tvoří Úřad práce ČR, který může být partnerem, ovšem bez finančního příspěvk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  <a:ea typeface="Calibri"/>
              </a:rPr>
              <a:t>Ostatní organizační složky státu a jimi zřizované organizace mohou být pouze spolupracujícími organizacemi, nikoli partne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Šipka doprava 3"/>
          <p:cNvSpPr/>
          <p:nvPr/>
        </p:nvSpPr>
        <p:spPr>
          <a:xfrm>
            <a:off x="587520" y="1700280"/>
            <a:ext cx="647640" cy="369720"/>
          </a:xfrm>
          <a:prstGeom prst="rightArrow">
            <a:avLst>
              <a:gd name="adj1" fmla="val 50000"/>
              <a:gd name="adj2" fmla="val 49834"/>
            </a:avLst>
          </a:prstGeom>
          <a:solidFill>
            <a:srgbClr val="d113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53" name="Šipka doprava 4"/>
          <p:cNvSpPr/>
          <p:nvPr/>
        </p:nvSpPr>
        <p:spPr>
          <a:xfrm>
            <a:off x="528480" y="4446720"/>
            <a:ext cx="648000" cy="368280"/>
          </a:xfrm>
          <a:prstGeom prst="rightArrow">
            <a:avLst>
              <a:gd name="adj1" fmla="val 50000"/>
              <a:gd name="adj2" fmla="val 50057"/>
            </a:avLst>
          </a:prstGeom>
          <a:solidFill>
            <a:srgbClr val="d113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Specifické kritérium – Princip partnerstv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         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vaha právních vztahů mezi žadatelem a jeho partnery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nesmí být založena na poskytování služeb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běžně dostupných na trh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Realizace principu partnerství nesmí být v rozporu s příslušnými právními předpisy ČR, zejména principu partnerství nesmí být zneužito k obcházení zákona o veřejných zakázká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Bodové zvýhodnění v rámci výzvy č. 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artnerství stejného typu subjektů – např. NNO a NNO, podnikatelský subjekt a podnikatelský subjekt – </a:t>
            </a:r>
            <a:r>
              <a:rPr b="1" lang="cs-CZ" sz="1800" spc="-1" strike="noStrike">
                <a:solidFill>
                  <a:srgbClr val="c00000"/>
                </a:solidFill>
                <a:latin typeface="Arial"/>
              </a:rPr>
              <a:t>0 bod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artnerství dvou typů subjektů – např. NNO a podnikatelský subjekt, NNO a místní samospráva, podnikatelský subjekt a místní samospráva – </a:t>
            </a:r>
            <a:r>
              <a:rPr b="1" lang="cs-CZ" sz="1800" spc="-1" strike="noStrike">
                <a:solidFill>
                  <a:srgbClr val="c00000"/>
                </a:solidFill>
                <a:latin typeface="Arial"/>
              </a:rPr>
              <a:t>6 bod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c) partnerství tří a více typů subjektů – např. NNO, podnikatelský subjekt a místní samospráva – </a:t>
            </a:r>
            <a:r>
              <a:rPr b="1" lang="cs-CZ" sz="1800" spc="-1" strike="noStrike">
                <a:solidFill>
                  <a:srgbClr val="c00000"/>
                </a:solidFill>
                <a:latin typeface="Arial"/>
              </a:rPr>
              <a:t>12 bod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         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Za jeden typ organizace jsou považovány všechny její právní form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Počet partnerů není rozhodující, body jsou přiděleny na základě propojení různých typů organizac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Šipka doprava 4"/>
          <p:cNvSpPr/>
          <p:nvPr/>
        </p:nvSpPr>
        <p:spPr>
          <a:xfrm>
            <a:off x="555480" y="1341360"/>
            <a:ext cx="648000" cy="368280"/>
          </a:xfrm>
          <a:prstGeom prst="rightArrow">
            <a:avLst>
              <a:gd name="adj1" fmla="val 50000"/>
              <a:gd name="adj2" fmla="val 50057"/>
            </a:avLst>
          </a:prstGeom>
          <a:solidFill>
            <a:srgbClr val="d113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57" name="Šipka doprava 5"/>
          <p:cNvSpPr/>
          <p:nvPr/>
        </p:nvSpPr>
        <p:spPr>
          <a:xfrm>
            <a:off x="582480" y="4941720"/>
            <a:ext cx="649440" cy="368640"/>
          </a:xfrm>
          <a:prstGeom prst="rightArrow">
            <a:avLst>
              <a:gd name="adj1" fmla="val 50000"/>
              <a:gd name="adj2" fmla="val 50119"/>
            </a:avLst>
          </a:prstGeom>
          <a:solidFill>
            <a:srgbClr val="d113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Výhody, klady, příležitosti partnerstv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Schopnost identifikovat problémy a potřeby a vyvinout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účinné způsoby jejich řeš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Rozšíření projektových zdrojů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– dovedností, znalostí, organizační kapacit, finančních zdroj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Střet rozmanitých zkušeností a myšlenek –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tvůrčí řešení a inov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Mnohostranné řešení mnohostranných (komplexních) problémů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– každý přispívá něčím, co ti druzí nemají, neznají nebo neum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     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dnikatelský sektor a veřejný sektor –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pení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          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veřejný sektor a neziskový sektor –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zájmy a potřeby lid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          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neziskový a podnikatelský sektor –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pružnost, iniciativa, efektiv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          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neziskový sektor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strádá často finanční zdroje (materiál i lid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          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dnikatelský sektor – postrádá veřejný záj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          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veřejný sektor – postrádá podnikavost, odvahu začít, pružnos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          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efektiv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5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c00000"/>
                </a:solidFill>
                <a:latin typeface="Arial"/>
              </a:rPr>
              <a:t>Synergie – partneři toho spolu dokáží víc, než každý sám (1+1&lt; 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Šipka doprava 5"/>
          <p:cNvSpPr/>
          <p:nvPr/>
        </p:nvSpPr>
        <p:spPr>
          <a:xfrm>
            <a:off x="539640" y="3500280"/>
            <a:ext cx="647640" cy="370080"/>
          </a:xfrm>
          <a:prstGeom prst="rightArrow">
            <a:avLst>
              <a:gd name="adj1" fmla="val 50000"/>
              <a:gd name="adj2" fmla="val 49786"/>
            </a:avLst>
          </a:prstGeom>
          <a:solidFill>
            <a:srgbClr val="d113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61" name="Šipka doprava 4"/>
          <p:cNvSpPr/>
          <p:nvPr/>
        </p:nvSpPr>
        <p:spPr>
          <a:xfrm>
            <a:off x="539640" y="4446720"/>
            <a:ext cx="647640" cy="369720"/>
          </a:xfrm>
          <a:prstGeom prst="rightArrow">
            <a:avLst>
              <a:gd name="adj1" fmla="val 50000"/>
              <a:gd name="adj2" fmla="val 49834"/>
            </a:avLst>
          </a:prstGeom>
          <a:solidFill>
            <a:srgbClr val="d113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Nevýhody, zápory, rizika partnerstv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Víc partnerů = víc lidí = více pohledů na věc </a:t>
            </a: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→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více času a úsilí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třebného k přesvědčení ostatních, k dosažení konsensu a k přijetí rozhodnut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říjemce si nemůže dělat vše jen dle svého – musí brát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ohledy na partn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Spolupráce postavena na jasném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smluvním a právním základě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– jeden z partnerů má konečnou zodpovědnost za projek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artnerství vyžaduje řízení a s tím i dobré komunikační doved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Invalidní partnerství – partnerství bez reálné rovnoprávnosti, bez podílu na rozhodování či bez dostatečné informovanosti některých člen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c00000"/>
                </a:solidFill>
                <a:latin typeface="Arial"/>
              </a:rPr>
              <a:t>Pozor </a:t>
            </a:r>
            <a:r>
              <a:rPr b="0" lang="cs-CZ" sz="1800" spc="-1" strike="noStrike">
                <a:solidFill>
                  <a:srgbClr val="c00000"/>
                </a:solidFill>
                <a:latin typeface="Arial"/>
              </a:rPr>
              <a:t>!!!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– na partnery, kteří jsou neužiteční, mají nevhodné cíle, nebo chtějí ostatní jen využít. Do projektu nic nepřináší – peníze, know how či lidské zdroje, ale chtějí pouze „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pomoci s realizací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“ jakožto dodavatelé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Mít či nemít partnera? Pokud ano, koh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Důležité otáz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Co partneři do projektu přinesou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Jsou uznatelní v rámci výzvy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Jaká bude partnerova úloha v projektu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Jaký bude jejich závazek, jak ho přijmou a jak ho naplní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Jak logicky do sebe zapadají jednotlivé úlohy partnerů? – nejsou někde mezery? Nedublují se určité aktivity? Existují třecí plochy, konflikty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Při přípravě partnerského projekt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Nelze ušetřit čas – je třeba mnoho setkání, diskuzí či alespoň e-mail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Zajistit rovnost účastníků – každý by měl něčím přispět – silnější identifikace s projek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Je opravdu společná ochota podílet se na získávání a využívání společných finančních prostředků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Specifické kritérium – Metoda logického rám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Hodnotí se použití metody logického rámce, která umožňuje navržení a uspořádání základních charakteristik projektu ve vzájemných souvislostech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Vnitřní logika projektu prokázaná v matici logického rámce, je založena na principu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příčiny a důsledk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        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shora dolů: </a:t>
            </a:r>
            <a:r>
              <a:rPr b="0" i="1" lang="cs-CZ" sz="1800" spc="-1" strike="noStrike">
                <a:solidFill>
                  <a:srgbClr val="143f7e"/>
                </a:solidFill>
                <a:latin typeface="Arial"/>
              </a:rPr>
              <a:t>Aby – Je třeba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, zdola nahoru: </a:t>
            </a:r>
            <a:r>
              <a:rPr b="0" i="1" lang="cs-CZ" sz="1800" spc="-1" strike="noStrike">
                <a:solidFill>
                  <a:srgbClr val="143f7e"/>
                </a:solidFill>
                <a:latin typeface="Arial"/>
              </a:rPr>
              <a:t>Jestliže – P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143f7e"/>
                </a:solidFill>
                <a:latin typeface="Arial"/>
              </a:rPr>
              <a:t>V Jestliže/Pak testu musí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být uvedeny všechny faktory ovlivňující dosažení vyšší úrovně (dosažení vyšší úrovně je podmíněno splněním nižší úrovně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    </a:t>
            </a:r>
            <a:r>
              <a:rPr b="0" lang="cs-CZ" sz="1800" spc="-1" strike="noStrike">
                <a:solidFill>
                  <a:srgbClr val="d1131c"/>
                </a:solidFill>
                <a:latin typeface="Arial"/>
              </a:rPr>
              <a:t>Jestliže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provedeme tyto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Aktivity → </a:t>
            </a:r>
            <a:r>
              <a:rPr b="0" lang="cs-CZ" sz="1800" spc="-1" strike="noStrike">
                <a:solidFill>
                  <a:srgbClr val="d1131c"/>
                </a:solidFill>
                <a:latin typeface="Arial"/>
              </a:rPr>
              <a:t>pak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dosáhneme těchto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Výstupů a výsledků → </a:t>
            </a:r>
            <a:r>
              <a:rPr b="0" lang="cs-CZ" sz="1800" spc="-1" strike="noStrike">
                <a:solidFill>
                  <a:srgbClr val="d1131c"/>
                </a:solidFill>
                <a:latin typeface="Arial"/>
              </a:rPr>
              <a:t>Jestliže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jsme dosáhli těchto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Výstupů a výsledků → </a:t>
            </a:r>
            <a:r>
              <a:rPr b="0" lang="cs-CZ" sz="1800" spc="-1" strike="noStrike">
                <a:solidFill>
                  <a:srgbClr val="d1131c"/>
                </a:solidFill>
                <a:latin typeface="Arial"/>
              </a:rPr>
              <a:t>pak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lze očekávat tuto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změnu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(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Účel projektu) → </a:t>
            </a:r>
            <a:r>
              <a:rPr b="0" lang="cs-CZ" sz="1800" spc="-1" strike="noStrike">
                <a:solidFill>
                  <a:srgbClr val="d1131c"/>
                </a:solidFill>
                <a:latin typeface="Arial"/>
              </a:rPr>
              <a:t>Jestliže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jsme splnili tento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Účel projektu → </a:t>
            </a:r>
            <a:r>
              <a:rPr b="0" lang="cs-CZ" sz="1800" spc="-1" strike="noStrike">
                <a:solidFill>
                  <a:srgbClr val="d1131c"/>
                </a:solidFill>
                <a:latin typeface="Arial"/>
              </a:rPr>
              <a:t>pak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jsme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řispěli k naplnění tohoto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obecného cí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Dobrý projekt má zvolené monitorovací ukazatele přiměřené a realistické, cíle jsou vždy kvantifikované a stanovené cílové hodnoty jsou dosažitelné (z hlediska času a rozpočtu) a vedou k měřitelným dopadů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Nepředložení LR - </a:t>
            </a:r>
            <a:r>
              <a:rPr b="0" lang="cs-CZ" sz="1800" spc="-1" strike="noStrike">
                <a:solidFill>
                  <a:srgbClr val="d1131c"/>
                </a:solidFill>
                <a:latin typeface="Arial"/>
              </a:rPr>
              <a:t>0 bodů 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X</a:t>
            </a:r>
            <a:r>
              <a:rPr b="0" lang="cs-CZ" sz="1800" spc="-1" strike="noStrike">
                <a:solidFill>
                  <a:srgbClr val="d1131c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ředložení LR – </a:t>
            </a:r>
            <a:r>
              <a:rPr b="0" lang="cs-CZ" sz="1800" spc="-1" strike="noStrike">
                <a:solidFill>
                  <a:srgbClr val="d1131c"/>
                </a:solidFill>
                <a:latin typeface="Arial"/>
              </a:rPr>
              <a:t>3 body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Šipka doprava 5"/>
          <p:cNvSpPr/>
          <p:nvPr/>
        </p:nvSpPr>
        <p:spPr>
          <a:xfrm>
            <a:off x="520560" y="3645000"/>
            <a:ext cx="648000" cy="368280"/>
          </a:xfrm>
          <a:prstGeom prst="rightArrow">
            <a:avLst>
              <a:gd name="adj1" fmla="val 50000"/>
              <a:gd name="adj2" fmla="val 50057"/>
            </a:avLst>
          </a:prstGeom>
          <a:solidFill>
            <a:srgbClr val="d113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69" name="Šipka doprava 5"/>
          <p:cNvSpPr/>
          <p:nvPr/>
        </p:nvSpPr>
        <p:spPr>
          <a:xfrm>
            <a:off x="500040" y="2698920"/>
            <a:ext cx="647640" cy="368280"/>
          </a:xfrm>
          <a:prstGeom prst="rightArrow">
            <a:avLst>
              <a:gd name="adj1" fmla="val 50000"/>
              <a:gd name="adj2" fmla="val 50029"/>
            </a:avLst>
          </a:prstGeom>
          <a:solidFill>
            <a:srgbClr val="d113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Specifické kritérium – Metoda logického rám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116000" y="1468440"/>
            <a:ext cx="77040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1403280" y="1663560"/>
          <a:ext cx="7201080" cy="4359240"/>
        </p:xfrm>
        <a:graphic>
          <a:graphicData uri="http://schemas.openxmlformats.org/drawingml/2006/table">
            <a:tbl>
              <a:tblPr/>
              <a:tblGrid>
                <a:gridCol w="1800360"/>
                <a:gridCol w="1800000"/>
                <a:gridCol w="1800360"/>
                <a:gridCol w="1800360"/>
              </a:tblGrid>
              <a:tr h="131148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oupec – intervenční logika (strom cílů)</a:t>
                      </a: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d1131c"/>
                          </a:solidFill>
                          <a:latin typeface="Arial"/>
                        </a:rPr>
                        <a:t>Velmi obecné proč</a:t>
                      </a: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jektivně měřitelné ukazatele</a:t>
                      </a: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oupec – zdroje a prostředky k ověření</a:t>
                      </a: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oupec – vnější předpoklady a rizika</a:t>
                      </a: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10159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Účel projektu</a:t>
                      </a: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d1131c"/>
                          </a:solidFill>
                          <a:latin typeface="Arial"/>
                        </a:rPr>
                        <a:t>Proč?</a:t>
                      </a: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10159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stupy projektu</a:t>
                      </a: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d1131c"/>
                          </a:solidFill>
                          <a:latin typeface="Arial"/>
                        </a:rPr>
                        <a:t>Co?</a:t>
                      </a: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10159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ktivity projektu</a:t>
                      </a: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d1131c"/>
                          </a:solidFill>
                          <a:latin typeface="Arial"/>
                        </a:rPr>
                        <a:t>Jak?</a:t>
                      </a: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  <p:sp>
        <p:nvSpPr>
          <p:cNvPr id="73" name="Zahnutá šipka doleva 8"/>
          <p:cNvSpPr/>
          <p:nvPr/>
        </p:nvSpPr>
        <p:spPr>
          <a:xfrm>
            <a:off x="3008160" y="3687840"/>
            <a:ext cx="601920" cy="863640"/>
          </a:xfrm>
          <a:custGeom>
            <a:avLst/>
            <a:gdLst>
              <a:gd name="textAreaLeft" fmla="*/ 80640 w 601920"/>
              <a:gd name="textAreaRight" fmla="*/ 521280 w 601920"/>
              <a:gd name="textAreaTop" fmla="*/ 159480 h 863640"/>
              <a:gd name="textAreaBottom" fmla="*/ 62892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979" stAng="-5400000" swAng="5400000"/>
                <a:lnTo>
                  <a:pt x="21600" y="11741"/>
                </a:lnTo>
                <a:arcTo wR="21600" hR="7979" stAng="0" swAng="3302751"/>
                <a:lnTo>
                  <a:pt x="5400" y="21347"/>
                </a:lnTo>
                <a:lnTo>
                  <a:pt x="0" y="17838"/>
                </a:lnTo>
                <a:lnTo>
                  <a:pt x="5400" y="13823"/>
                </a:lnTo>
                <a:lnTo>
                  <a:pt x="5400" y="15704"/>
                </a:lnTo>
                <a:arcTo wR="21600" hR="7979" stAng="3302751" swAng="-2995518"/>
                <a:lnTo>
                  <a:pt x="20991" y="9860"/>
                </a:lnTo>
                <a:arcTo wR="21600" hR="7979" stAng="-307233" swAng="-5092767"/>
                <a:close/>
              </a:path>
              <a:path fill="darkenLess" w="21600" h="21600">
                <a:moveTo>
                  <a:pt x="0" y="0"/>
                </a:moveTo>
                <a:arcTo wR="21600" hR="7979" stAng="-5400000" swAng="5400000"/>
                <a:lnTo>
                  <a:pt x="21600" y="11741"/>
                </a:lnTo>
                <a:arcTo wR="21600" hR="7979" stAng="0" swAng="-307233"/>
                <a:lnTo>
                  <a:pt x="20991" y="9860"/>
                </a:lnTo>
                <a:arcTo wR="21600" hR="7979" stAng="-307233" swAng="-5092767"/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74" name="Zahnutá šipka doleva 10"/>
          <p:cNvSpPr/>
          <p:nvPr/>
        </p:nvSpPr>
        <p:spPr>
          <a:xfrm>
            <a:off x="3008160" y="2708280"/>
            <a:ext cx="601920" cy="865080"/>
          </a:xfrm>
          <a:custGeom>
            <a:avLst/>
            <a:gdLst>
              <a:gd name="textAreaLeft" fmla="*/ 80640 w 601920"/>
              <a:gd name="textAreaRight" fmla="*/ 521280 w 601920"/>
              <a:gd name="textAreaTop" fmla="*/ 159480 h 865080"/>
              <a:gd name="textAreaBottom" fmla="*/ 630000 h 86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979" stAng="-5400000" swAng="5400000"/>
                <a:lnTo>
                  <a:pt x="21600" y="11741"/>
                </a:lnTo>
                <a:arcTo wR="21600" hR="7979" stAng="0" swAng="3302751"/>
                <a:lnTo>
                  <a:pt x="5400" y="21347"/>
                </a:lnTo>
                <a:lnTo>
                  <a:pt x="0" y="17838"/>
                </a:lnTo>
                <a:lnTo>
                  <a:pt x="5400" y="13823"/>
                </a:lnTo>
                <a:lnTo>
                  <a:pt x="5400" y="15704"/>
                </a:lnTo>
                <a:arcTo wR="21600" hR="7979" stAng="3302751" swAng="-2995518"/>
                <a:lnTo>
                  <a:pt x="20991" y="9860"/>
                </a:lnTo>
                <a:arcTo wR="21600" hR="7979" stAng="-307233" swAng="-5092767"/>
                <a:close/>
              </a:path>
              <a:path fill="darkenLess" w="21600" h="21600">
                <a:moveTo>
                  <a:pt x="0" y="0"/>
                </a:moveTo>
                <a:arcTo wR="21600" hR="7979" stAng="-5400000" swAng="5400000"/>
                <a:lnTo>
                  <a:pt x="21600" y="11741"/>
                </a:lnTo>
                <a:arcTo wR="21600" hR="7979" stAng="0" swAng="-307233"/>
                <a:lnTo>
                  <a:pt x="20991" y="9860"/>
                </a:lnTo>
                <a:arcTo wR="21600" hR="7979" stAng="-307233" swAng="-5092767"/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75" name="Zahnutá šipka doleva 11"/>
          <p:cNvSpPr/>
          <p:nvPr/>
        </p:nvSpPr>
        <p:spPr>
          <a:xfrm>
            <a:off x="3008160" y="4724280"/>
            <a:ext cx="601920" cy="865440"/>
          </a:xfrm>
          <a:custGeom>
            <a:avLst/>
            <a:gdLst>
              <a:gd name="textAreaLeft" fmla="*/ 80640 w 601920"/>
              <a:gd name="textAreaRight" fmla="*/ 521280 w 601920"/>
              <a:gd name="textAreaTop" fmla="*/ 159840 h 865440"/>
              <a:gd name="textAreaBottom" fmla="*/ 630360 h 86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979" stAng="-5400000" swAng="5400000"/>
                <a:lnTo>
                  <a:pt x="21600" y="11741"/>
                </a:lnTo>
                <a:arcTo wR="21600" hR="7979" stAng="0" swAng="3302751"/>
                <a:lnTo>
                  <a:pt x="5400" y="21347"/>
                </a:lnTo>
                <a:lnTo>
                  <a:pt x="0" y="17838"/>
                </a:lnTo>
                <a:lnTo>
                  <a:pt x="5400" y="13823"/>
                </a:lnTo>
                <a:lnTo>
                  <a:pt x="5400" y="15704"/>
                </a:lnTo>
                <a:arcTo wR="21600" hR="7979" stAng="3302751" swAng="-2995518"/>
                <a:lnTo>
                  <a:pt x="20991" y="9860"/>
                </a:lnTo>
                <a:arcTo wR="21600" hR="7979" stAng="-307233" swAng="-5092767"/>
                <a:close/>
              </a:path>
              <a:path fill="darkenLess" w="21600" h="21600">
                <a:moveTo>
                  <a:pt x="0" y="0"/>
                </a:moveTo>
                <a:arcTo wR="21600" hR="7979" stAng="-5400000" swAng="5400000"/>
                <a:lnTo>
                  <a:pt x="21600" y="11741"/>
                </a:lnTo>
                <a:arcTo wR="21600" hR="7979" stAng="0" swAng="-307233"/>
                <a:lnTo>
                  <a:pt x="20991" y="9860"/>
                </a:lnTo>
                <a:arcTo wR="21600" hR="7979" stAng="-307233" swAng="-5092767"/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76" name="Zahnutá šipka doprava 7"/>
          <p:cNvSpPr/>
          <p:nvPr/>
        </p:nvSpPr>
        <p:spPr>
          <a:xfrm>
            <a:off x="395280" y="4653000"/>
            <a:ext cx="360360" cy="792000"/>
          </a:xfrm>
          <a:custGeom>
            <a:avLst/>
            <a:gdLst>
              <a:gd name="textAreaLeft" fmla="*/ 48240 w 360360"/>
              <a:gd name="textAreaRight" fmla="*/ 312120 w 360360"/>
              <a:gd name="textAreaTop" fmla="*/ 164160 h 792000"/>
              <a:gd name="textAreaBottom" fmla="*/ 58284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959" stAng="-5400000" swAng="-5400000"/>
                <a:lnTo>
                  <a:pt x="0" y="11414"/>
                </a:lnTo>
                <a:arcTo wR="21600" hR="8959" stAng="10800000" swAng="-3485831"/>
                <a:lnTo>
                  <a:pt x="16200" y="21316"/>
                </a:lnTo>
                <a:lnTo>
                  <a:pt x="21600" y="19146"/>
                </a:lnTo>
                <a:lnTo>
                  <a:pt x="16200" y="16407"/>
                </a:lnTo>
                <a:lnTo>
                  <a:pt x="16200" y="17634"/>
                </a:lnTo>
                <a:arcTo wR="21600" hR="8959" stAng="7314169" swAng="3288825"/>
                <a:lnTo>
                  <a:pt x="204" y="10187"/>
                </a:lnTo>
                <a:arcTo wR="21600" hR="8959" stAng="-10602993" swAng="5202993"/>
                <a:close/>
              </a:path>
              <a:path fill="darkenLess" w="21600" h="21600">
                <a:moveTo>
                  <a:pt x="21600" y="0"/>
                </a:moveTo>
                <a:arcTo wR="21600" hR="8959" stAng="-5400000" swAng="-5400000"/>
                <a:lnTo>
                  <a:pt x="0" y="8959"/>
                </a:lnTo>
                <a:arcTo wR="21600" hR="8959" stAng="10800000" swAng="-197007"/>
                <a:lnTo>
                  <a:pt x="204" y="10187"/>
                </a:lnTo>
                <a:arcTo wR="21600" hR="8959" stAng="-10602993" swAng="5202993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77" name="Zahnutá šipka nahoru 12"/>
          <p:cNvSpPr/>
          <p:nvPr/>
        </p:nvSpPr>
        <p:spPr>
          <a:xfrm>
            <a:off x="395280" y="4653000"/>
            <a:ext cx="549360" cy="647640"/>
          </a:xfrm>
          <a:custGeom>
            <a:avLst/>
            <a:gdLst>
              <a:gd name="textAreaLeft" fmla="*/ 85680 w 549360"/>
              <a:gd name="textAreaRight" fmla="*/ 394920 w 549360"/>
              <a:gd name="textAreaTop" fmla="*/ 86760 h 647640"/>
              <a:gd name="textAreaBottom" fmla="*/ 560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6750" hR="21600" stAng="10800000" swAng="-5400000"/>
                <a:lnTo>
                  <a:pt x="12150" y="21600"/>
                </a:lnTo>
                <a:arcTo wR="6750" hR="21600" stAng="5400000" swAng="-3313283"/>
                <a:lnTo>
                  <a:pt x="21446" y="4581"/>
                </a:lnTo>
                <a:lnTo>
                  <a:pt x="16200" y="0"/>
                </a:lnTo>
                <a:lnTo>
                  <a:pt x="10646" y="4581"/>
                </a:lnTo>
                <a:lnTo>
                  <a:pt x="13346" y="4581"/>
                </a:lnTo>
                <a:arcTo wR="6750" hR="21600" stAng="2086717" swAng="2847297"/>
                <a:lnTo>
                  <a:pt x="9450" y="19797"/>
                </a:lnTo>
                <a:arcTo wR="6750" hR="21600" stAng="5865986" swAng="4934014"/>
                <a:close/>
              </a:path>
              <a:path fill="darkenLess" w="21600" h="21600">
                <a:moveTo>
                  <a:pt x="0" y="0"/>
                </a:moveTo>
                <a:arcTo wR="6750" hR="21600" stAng="10800000" swAng="-5400000"/>
                <a:lnTo>
                  <a:pt x="12150" y="21600"/>
                </a:lnTo>
                <a:arcTo wR="6750" hR="21600" stAng="5400000" swAng="465986"/>
                <a:lnTo>
                  <a:pt x="9450" y="19797"/>
                </a:lnTo>
                <a:arcTo wR="6750" hR="21600" stAng="5865986" swAng="4934014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78" name="AutoShape 44"/>
          <p:cNvSpPr/>
          <p:nvPr/>
        </p:nvSpPr>
        <p:spPr>
          <a:xfrm flipH="1" flipV="1">
            <a:off x="1151640" y="4579200"/>
            <a:ext cx="436680" cy="865080"/>
          </a:xfrm>
          <a:custGeom>
            <a:avLst/>
            <a:gdLst>
              <a:gd name="textAreaLeft" fmla="*/ 58320 w 436680"/>
              <a:gd name="textAreaRight" fmla="*/ 378360 w 436680"/>
              <a:gd name="textAreaTop" fmla="*/ 154080 h 865080"/>
              <a:gd name="textAreaBottom" fmla="*/ 627840 h 86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726" stAng="-5400000" swAng="5400000"/>
                <a:lnTo>
                  <a:pt x="21600" y="11825"/>
                </a:lnTo>
                <a:arcTo wR="21600" hR="7726" stAng="0" swAng="2719859"/>
                <a:lnTo>
                  <a:pt x="7200" y="21158"/>
                </a:lnTo>
                <a:lnTo>
                  <a:pt x="0" y="17501"/>
                </a:lnTo>
                <a:lnTo>
                  <a:pt x="7200" y="12959"/>
                </a:lnTo>
                <a:lnTo>
                  <a:pt x="7200" y="15009"/>
                </a:lnTo>
                <a:arcTo wR="21600" hR="7726" stAng="2719859" swAng="-2382635"/>
                <a:lnTo>
                  <a:pt x="20826" y="9775"/>
                </a:lnTo>
                <a:arcTo wR="21600" hR="7726" stAng="-337224" swAng="-5062776"/>
                <a:close/>
              </a:path>
              <a:path fill="darkenLess" w="21600" h="21600">
                <a:moveTo>
                  <a:pt x="0" y="0"/>
                </a:moveTo>
                <a:arcTo wR="21600" hR="7726" stAng="-5400000" swAng="5400000"/>
                <a:lnTo>
                  <a:pt x="21600" y="11825"/>
                </a:lnTo>
                <a:arcTo wR="21600" hR="7726" stAng="0" swAng="-337224"/>
                <a:lnTo>
                  <a:pt x="20826" y="9775"/>
                </a:lnTo>
                <a:arcTo wR="21600" hR="7726" stAng="-337224" swAng="-5062776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79" name="AutoShape 44"/>
          <p:cNvSpPr/>
          <p:nvPr/>
        </p:nvSpPr>
        <p:spPr>
          <a:xfrm flipH="1" flipV="1">
            <a:off x="1162800" y="2482200"/>
            <a:ext cx="436680" cy="865080"/>
          </a:xfrm>
          <a:custGeom>
            <a:avLst/>
            <a:gdLst>
              <a:gd name="textAreaLeft" fmla="*/ 58320 w 436680"/>
              <a:gd name="textAreaRight" fmla="*/ 378360 w 436680"/>
              <a:gd name="textAreaTop" fmla="*/ 154080 h 865080"/>
              <a:gd name="textAreaBottom" fmla="*/ 627840 h 86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726" stAng="-5400000" swAng="5400000"/>
                <a:lnTo>
                  <a:pt x="21600" y="11825"/>
                </a:lnTo>
                <a:arcTo wR="21600" hR="7726" stAng="0" swAng="2719859"/>
                <a:lnTo>
                  <a:pt x="7200" y="21158"/>
                </a:lnTo>
                <a:lnTo>
                  <a:pt x="0" y="17501"/>
                </a:lnTo>
                <a:lnTo>
                  <a:pt x="7200" y="12959"/>
                </a:lnTo>
                <a:lnTo>
                  <a:pt x="7200" y="15009"/>
                </a:lnTo>
                <a:arcTo wR="21600" hR="7726" stAng="2719859" swAng="-2382635"/>
                <a:lnTo>
                  <a:pt x="20826" y="9775"/>
                </a:lnTo>
                <a:arcTo wR="21600" hR="7726" stAng="-337224" swAng="-5062776"/>
                <a:close/>
              </a:path>
              <a:path fill="darkenLess" w="21600" h="21600">
                <a:moveTo>
                  <a:pt x="0" y="0"/>
                </a:moveTo>
                <a:arcTo wR="21600" hR="7726" stAng="-5400000" swAng="5400000"/>
                <a:lnTo>
                  <a:pt x="21600" y="11825"/>
                </a:lnTo>
                <a:arcTo wR="21600" hR="7726" stAng="0" swAng="-337224"/>
                <a:lnTo>
                  <a:pt x="20826" y="9775"/>
                </a:lnTo>
                <a:arcTo wR="21600" hR="7726" stAng="-337224" swAng="-5062776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80" name="AutoShape 44"/>
          <p:cNvSpPr/>
          <p:nvPr/>
        </p:nvSpPr>
        <p:spPr>
          <a:xfrm flipH="1" flipV="1">
            <a:off x="1162800" y="3539520"/>
            <a:ext cx="438120" cy="865080"/>
          </a:xfrm>
          <a:custGeom>
            <a:avLst/>
            <a:gdLst>
              <a:gd name="textAreaLeft" fmla="*/ 58680 w 438120"/>
              <a:gd name="textAreaRight" fmla="*/ 379440 w 438120"/>
              <a:gd name="textAreaTop" fmla="*/ 154080 h 865080"/>
              <a:gd name="textAreaBottom" fmla="*/ 627840 h 86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726" stAng="-5400000" swAng="5400000"/>
                <a:lnTo>
                  <a:pt x="21600" y="11825"/>
                </a:lnTo>
                <a:arcTo wR="21600" hR="7726" stAng="0" swAng="2719859"/>
                <a:lnTo>
                  <a:pt x="7200" y="21158"/>
                </a:lnTo>
                <a:lnTo>
                  <a:pt x="0" y="17501"/>
                </a:lnTo>
                <a:lnTo>
                  <a:pt x="7200" y="12959"/>
                </a:lnTo>
                <a:lnTo>
                  <a:pt x="7200" y="15009"/>
                </a:lnTo>
                <a:arcTo wR="21600" hR="7726" stAng="2719859" swAng="-2382635"/>
                <a:lnTo>
                  <a:pt x="20826" y="9775"/>
                </a:lnTo>
                <a:arcTo wR="21600" hR="7726" stAng="-337224" swAng="-5062776"/>
                <a:close/>
              </a:path>
              <a:path fill="darkenLess" w="21600" h="21600">
                <a:moveTo>
                  <a:pt x="0" y="0"/>
                </a:moveTo>
                <a:arcTo wR="21600" hR="7726" stAng="-5400000" swAng="5400000"/>
                <a:lnTo>
                  <a:pt x="21600" y="11825"/>
                </a:lnTo>
                <a:arcTo wR="21600" hR="7726" stAng="0" swAng="-337224"/>
                <a:lnTo>
                  <a:pt x="20826" y="9775"/>
                </a:lnTo>
                <a:arcTo wR="21600" hR="7726" stAng="-337224" swAng="-5062776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81" name="TextovéPole 14"/>
          <p:cNvSpPr/>
          <p:nvPr/>
        </p:nvSpPr>
        <p:spPr>
          <a:xfrm>
            <a:off x="3708360" y="3348000"/>
            <a:ext cx="1440000" cy="11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Aby </a:t>
            </a:r>
            <a:endParaRPr b="0" lang="en-US" sz="2400" spc="-1" strike="noStrike">
              <a:solidFill>
                <a:srgbClr val="143f7e"/>
              </a:solidFill>
              <a:latin typeface="Arial"/>
            </a:endParaRPr>
          </a:p>
          <a:p>
            <a:pPr algn="just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Je třeba</a:t>
            </a:r>
            <a:endParaRPr b="0" lang="en-US" sz="24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82" name="TextovéPole 19"/>
          <p:cNvSpPr/>
          <p:nvPr/>
        </p:nvSpPr>
        <p:spPr>
          <a:xfrm>
            <a:off x="-19080" y="4863960"/>
            <a:ext cx="1333440" cy="11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Pak </a:t>
            </a:r>
            <a:endParaRPr b="0" lang="en-US" sz="2400" spc="-1" strike="noStrike">
              <a:solidFill>
                <a:srgbClr val="143f7e"/>
              </a:solidFill>
              <a:latin typeface="Arial"/>
            </a:endParaRPr>
          </a:p>
          <a:p>
            <a:pPr algn="just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Jestliže</a:t>
            </a:r>
            <a:endParaRPr b="0" lang="en-US" sz="24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ostup vyplňování logického rám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Definovat </a:t>
            </a:r>
            <a:r>
              <a:rPr b="1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obecný (hlavní) cíl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, k jehož naplnění projekt přispěje; cíl, k jehož dosažení je projekt jen jednou z podmínek; důvod realizace ve spojení s prioritami v operačních programech (či programových dodatcích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Uvádíme, k dosažení jakého cíle přispějeme, jestliže splníme účel, pro který    jsme se do projektu pouštěli. Hlavní cíl v logickém rámci by měl odpovídat hlavnímu cíli v daném opatření O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        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STANOVÉNÍ OBECNÉHO CÍLE - CO CHCEME DOSÁHNOU    OBECNĚ, JESTLIŽE SPLNÍME ÚČ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ř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ro oblast podpory 3. 4 je obecným cílem podpora Rovných příležitostí žen a mužů na trhu práce a slaďování pracovního a rodinného živo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        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Zlepšení slaďování rodinného a pracovního života (v regionu XY, v MSP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Šipka doprava 5"/>
          <p:cNvSpPr/>
          <p:nvPr/>
        </p:nvSpPr>
        <p:spPr>
          <a:xfrm>
            <a:off x="493560" y="3589200"/>
            <a:ext cx="648000" cy="368280"/>
          </a:xfrm>
          <a:prstGeom prst="rightArrow">
            <a:avLst>
              <a:gd name="adj1" fmla="val 50000"/>
              <a:gd name="adj2" fmla="val 50057"/>
            </a:avLst>
          </a:prstGeom>
          <a:solidFill>
            <a:srgbClr val="d113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86" name="Šipka doprava 5"/>
          <p:cNvSpPr/>
          <p:nvPr/>
        </p:nvSpPr>
        <p:spPr>
          <a:xfrm>
            <a:off x="493560" y="5661000"/>
            <a:ext cx="648000" cy="368280"/>
          </a:xfrm>
          <a:prstGeom prst="rightArrow">
            <a:avLst>
              <a:gd name="adj1" fmla="val 50000"/>
              <a:gd name="adj2" fmla="val 50057"/>
            </a:avLst>
          </a:prstGeom>
          <a:solidFill>
            <a:srgbClr val="d113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14:53:55Z</dcterms:created>
  <dc:creator>Slavek Hamadak</dc:creator>
  <dc:description/>
  <dc:language>en-US</dc:language>
  <cp:lastModifiedBy>Labajová Zuzana, Mgr. (MPSV)</cp:lastModifiedBy>
  <dcterms:modified xsi:type="dcterms:W3CDTF">2011-06-17T12:58:40Z</dcterms:modified>
  <cp:revision>1010</cp:revision>
  <dc:subject/>
  <dc:title>Snímek 1</dc:title>
</cp:coreProperties>
</file>